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DFA-ACA3-4C40-AB97-90611E71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9EF-102B-4DAF-8F8C-E995BFA1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34E-C420-4C61-BE3D-BDE3DF57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039-C349-49FC-9470-1D95BDF0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DF1-D1CF-4048-B490-CC4E1551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BE7-13AA-4D7A-878A-FFBD20F2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00A-A2C4-49E5-903D-C880206B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678-C95D-47CB-B65F-BD41755E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B8B-30C3-4448-9125-B1CCD946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FF7-4FB9-4195-B40C-60249250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7A0-E6FE-46FE-8CD2-9C517108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DF1-4E8E-4CA4-9801-890A1B7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1B19-632D-496F-ADCC-74D63367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 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of Birth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school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ian’s name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ian’s occupation 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ite movie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ck of this card, write something else about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1:59:22Z</dcterms:created>
  <dc:creator> </dc:creator>
  <dc:description/>
  <dc:language>en-US</dc:language>
  <cp:lastModifiedBy> </cp:lastModifiedBy>
  <dcterms:modified xsi:type="dcterms:W3CDTF">2008-08-09T02:47:15Z</dcterms:modified>
  <cp:revision>2</cp:revision>
  <dc:subject/>
  <dc:title>ABOUT ME</dc:title>
</cp:coreProperties>
</file>